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3AF-2A67-4631-9901-FDB55B74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2E86-FEEB-414A-B6CE-4DB8639B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DF3B2-7CEF-4784-8F64-AEE1241B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54A05-E485-47F4-8CF2-899A742B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81FB8-FF03-4AD8-BA1C-FBAF335D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6A5AD-6EFD-4E02-B783-73385EC5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292C9-B106-41E3-B07C-9FD4EEA4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DAA00-D640-46B0-B19B-4ACC91C6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A69F9-3F51-4795-8C12-7630A40F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D8ECC-087B-451D-9D44-A16257D8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27662-3138-454B-B39D-423AD1F4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630A9-D814-4137-8878-60F1495C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D5D0-E544-4029-99CF-2B3EA4A7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673DE-A55A-4C81-9B99-52D892BC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218D1-696C-4D18-9395-BDAFE52D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53920-8EBA-4747-9E2C-63F568CB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AC9A3-632D-4702-BBA9-75572E2E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A3B26-1C5B-4664-884E-30DEDC8F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AA54F-9C42-4458-BD6A-73FFBDC7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EA817-5E26-476B-A5CC-9562311E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50C86-B656-4614-BAA9-CAEF3192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EE77B-2544-439B-96FB-CB683B68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8F983-26FC-483F-A518-98D738DF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8B67-76B1-4C7E-ABF7-8A5FF7C2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D5089-46BC-442D-B173-86FEE921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EC482-66CC-4BEB-9B1C-8CDC400F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440E4-4BE9-4EE4-B4EC-D1788C18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E19C4-4C40-45A3-898C-2CE56265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AC37D-D461-4C2C-BB5B-CED4579F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ED3ED-4752-4F94-84BA-EF3A1686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88DAB-178B-4E51-9353-140ED8DA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FF732-4EDC-4BCF-829C-4FBA7B04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546E3-6DB6-456C-ADC2-5F9D80A4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46932-C384-40CF-BB5F-D45A7043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13AF-6382-44C5-A00A-04D67032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924A9-4F64-4FE7-ABD3-E2053546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5D119-7AF0-4ACE-A6BA-33AD8328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84CCA-7474-4516-9522-19435D41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9112A-0235-4D28-BE49-FE1E0896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29CD8-172E-466A-82E3-E9F056CC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A7553-DBF0-4584-95EC-8110D9D0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297F1-4DBE-4F94-B0F9-D28E1DC6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40FA6-F6B2-4DB1-9ECE-BFBE2D71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87788-C840-4925-B530-9A0650D8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509E0-6290-4033-A27A-EB544B92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A27D-251D-4AD4-890D-A08EAC95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322EE-D349-4D57-9CDE-153010E7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E4B23-FD76-4918-A554-93E2DC13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D429D-053F-4B6F-8866-D14D7ABA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45D9B-9F66-4FC2-8860-DBDF428F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3747A-4CF3-4936-A4FF-C6A93674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98CF07-A5A4-40AA-9D57-0EEA6A16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4D591-F08C-452B-BDD3-D06B69AD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81BF9F-5C23-4BBF-841A-BA92A0CB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47FF8-F51B-4013-BBAB-D0FD999C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BF388C-FFC5-4268-9B5A-BE76CC91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2346-41F7-4400-A619-0177C836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5A27E-0A5B-4CC6-9BFF-D9B0776C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8CD62-4DFA-46A3-800B-45AC00A6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9DF4B-71B7-4298-8F1F-3DC2BBFF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A8D928-B822-4F13-9CC1-D84B80DF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FFF198-E345-478B-98B8-04645286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63287F-B87E-4208-BF7C-1D055090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2ACAB-205B-4943-9D3C-FA312B5D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C24FC0-B920-428B-8880-504823AE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CC23FA-BF9B-49E0-A227-8A7F08A5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B135F9-2053-437B-8FDA-C6DDE201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8186-9F13-4003-8CA9-7E3BF2F1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A5E332-E4AD-4BA2-A53F-A8C0490D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58CEFB-51C7-43A0-954F-47E841E0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50318F-6DFA-4C2F-87A3-322CBDCE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745944-3E5A-4B5A-9FEF-6C719432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421187-0A2C-4922-BD4A-C4694742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E912D0-389C-40BE-94F8-A3F3C6A0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9B3935-29DF-47CF-93E1-510926D1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230F7B-1F58-40EC-BDBB-816AB218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5EB396-B941-4E31-8834-17D044F8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A96AC2-E78E-430F-B489-AE0B569B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B3C9-3E7C-4488-905D-117E4E0F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2E7396-3D45-4DBC-8BCD-D742ED2C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C683C4-D7BD-4532-88C0-8FAA75BA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63A8AF-9422-44A6-BD9F-99441D7D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A2193D-D62C-4DAD-9D0F-EED5B09A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03238E-06F2-4240-B70C-A37D7C3F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743F8C-4CF6-4346-AB39-A338CF90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71F960-9153-4CBB-88F7-FF75D67C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905AD7-07F7-4946-B720-597627E4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482B43-4C34-4C79-9901-BD48C159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7D4407-B08C-46FC-908C-28F47241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C0DD-E961-4DFA-8E15-A7AC6E0F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90F9A-B401-427C-A31B-B98C918D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2D8B92-A5E8-497B-8EF5-F1C3EC27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0A764A-3522-4629-8C12-979D68A6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949549-9325-4AE3-8095-6644A9A1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2C65F5-F12E-4EE0-B470-1A34BB27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FC5B71-0B33-4B05-8BAD-67F7775A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7E3B63-2CCD-4869-893A-10582D3F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867DD2-4BEF-4D91-8DB2-A74F019E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936FAE-9460-4626-A69C-B0920C18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D82932-D675-4076-BA4C-9297E43C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89C6-189D-4EC1-A65B-22B91374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2D561F-98B9-42C0-A125-B7D67AE7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AA4D80-F01C-4EBE-8B6F-AA655630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089B76-A3A7-4633-9FE5-3053D5FE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56CE49-C007-4F63-8EC6-F2F0B42D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AD7188-7512-4477-AF7B-DDB18CF0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D59B36-1A66-4CC1-961F-EDF5868B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9B7E43-40BC-409C-BE00-E24EBBDE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9FF471-1B2E-40BA-9928-A2A9FDCC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AA4F2D-0B46-4370-8AB9-972D08A1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7A3150-A350-405F-A36B-7C509E20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31B8-5113-4941-B2EE-2F92D633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B303-B828-4A77-839A-49472DB1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89616D-427A-414C-A4E2-C0F6B782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104D76-C82D-4583-99EE-230872EC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39D0DB-2012-488D-9158-0295FF37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0F2B5C-602E-4D02-B680-6B01C461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5D1F0C-D9E5-4275-85CB-7BF58D98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F66906-0527-4B8E-82A9-1E2E451D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F87557-0F9C-4B6F-A12F-EBC4555E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C4BE41-8611-4870-9C1E-ABADD5E3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AA2665-D8FF-4AEE-AEF1-6073BA6A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A7CC03-10C5-4E21-A11B-998D266F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D857-4674-4C0A-ABE1-30074781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5A485A-6D05-486A-9A9E-A83C253F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39602B-1891-4328-9BBD-D73E617F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618238-EA79-4BB0-98B7-428AC5F6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F5D19F-510E-4F4C-9CCE-51179CAF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FF7A20-14C4-491F-AA69-DF5A0670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D9E631-13B9-482F-AE21-3BEF4241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CFE98C-8383-4800-BE99-5719A40F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05BF0E-EFDB-4A04-A2B7-7064D64E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47E9D7-A6D6-45D9-845B-6FB60FAB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C394DF-2ED3-4AF4-B80E-33BAADDD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E9C4-DDF0-4B9D-96ED-0D1F27A0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7D4EB3-DC08-4ADA-A97E-364EF419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CED411-5C27-4885-810C-12377C92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EA00D7-587C-4CA7-A33D-3F2FD1D5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D7946A-D4B5-4393-BE5F-3D206791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FEA2B1-97C9-45E2-8926-532038A2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5FAC20-6ADD-462A-8FB1-AC452F33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F8A008-9D5B-472A-BD15-11BF4FF9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18358B-FA44-49EE-8A05-DA0DCC5A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71DF5D-DAE4-4DB0-9AB6-0F34E14F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A71F90-CCBD-4ED4-B046-DAFA35F5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E65F-5634-449E-9C8C-7F7EA65A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97DF5A-5BD2-41CC-B40E-4D37F0EC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4753F6-07C8-4F3C-8A1D-8CE3D4B2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72E872-751A-47F1-A4F3-EFDBB028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E533D6-8553-4C33-AC38-969026ED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91BAC7-A20C-472F-A16A-6FF541AF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8AE10A-8955-4C1B-992A-C875964C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FD9146-C6C4-4479-8275-B58E4D9A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8BCC7D-2FEE-4036-B0C2-352CA7A4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782949-BB8D-4E89-B5C2-214EC6E4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807E94-620A-452D-B5E7-8BC179A1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9641-1D51-413E-9152-C48841C2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976817-5BA0-48D1-A38F-5D98222D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139A22-4F39-47BD-86D7-6832AEFC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002F70-6735-4748-94BC-4BAE63AD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44C5CC-854E-4EBE-933D-B88C2507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C85E81-2FAF-4FCD-B323-BC730D2D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1E9363-A145-4A2A-873D-5EFDD8E5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44ADB6-6EE6-44E5-8C36-5FEA6CE3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3DFB6E-2C23-4141-8F3C-DFC19929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999E58-E866-4674-8156-732D7077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CA3609-93FA-4A87-8B90-02E374E1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BDD01-6736-4380-B5E4-529F999C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D84C20-47EE-4C71-BC9E-3EACA5BB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8C5B22-04E5-450F-B651-14598FE2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DFA504-C410-4585-97DA-A62503F5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18E0E-E970-4170-8F29-99E1A362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1CE72-7533-439F-8F65-142C0C60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CAF75-82A9-42E2-9C25-06EC15EF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FBF71-2B07-435F-A6F4-5B9EB9F5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5388-5D6B-4DFF-A0AC-BEBF0E1E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C1262-CD20-4AFA-AA06-9F0EC22E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D1010-6974-4B2C-A3CB-6689F5FA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C7E9F-5598-4175-B45B-1A769C60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1F5DA-1940-47CA-93DD-32B8854D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07D23-027C-4A2D-BA55-6E55482F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C50D3-69DE-4C0B-9081-4B97515C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341D2-2DE9-4FC9-B2F4-D1127E2E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1F936-CB73-4278-B93A-8E6AD87E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8FFCC-9AB5-489A-AD89-A8336022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9ABE8-DC30-4796-B2D3-759EBAE2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2D6A-3DDA-4695-A64A-C0F14E4F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76A78-247A-4473-9064-7AA1219D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537B6-B75C-4C3E-8BBB-46752ECC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A7B6A-AA3F-4C3D-A1B7-E99E5428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95657-D8A3-4DAF-9022-66147FA1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038BF-427C-448E-933A-602A694A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31AA3-D8DF-476A-8D6A-18C43F42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F7938-44AD-4677-9BCD-009623E1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B99DE-D57F-4823-9B55-7CAF3F7A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697A8-50BB-48C4-8009-B9EBF9FC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D2D65-56A3-4011-8C8C-A0E42B62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62F0-F4C0-49EE-8901-7C1E5873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78511-9E81-4812-AF5E-24FB6A93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60295-7626-4348-BD47-55001B03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EFC26-57E7-448D-AAFB-0722FBD9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F9BCB-4FDE-4426-A719-0D9E67A8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55AF0-A5A6-4E3D-8F98-9D012AFF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A1EA2-4746-4A66-A3D3-E24E4263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00878-B565-4664-B2C3-A2D0A6E9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64607-30F8-402D-B8A7-BA00DEA3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99FF3-4BC9-49B1-A506-132E7758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095F8-8AF7-4ED3-B173-89B5751B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4D64-9E2B-4DAB-B713-7BD9175B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73B0F-A873-4EB3-810D-419B9B3B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DE633-F6FC-4572-9644-A07E75E8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AB631-C508-4C2F-B55F-1A248585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9EC6C-7CB4-4B10-B9C2-BD35C376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DE8A8-E670-4BB7-BB38-2A324A02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488A6-8D9A-4BE0-8578-2885FE5A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96F54-084A-4BEC-8DFC-B6844D00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EFC88-7C8A-4809-9327-71496EC1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DA00D-B105-4366-9495-7DB57313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3578F-FEA0-4D05-A275-923BD804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D506-1A88-484B-B2EF-60AF8F72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D3564-5122-4523-B6F8-F91A4DDB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C7A61-5D1C-4CD4-8914-37539713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57C7A-A222-447A-A5DB-1D1341BF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FFD3D-D0CF-4294-861C-2073E79C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1A882-28C5-4550-BF84-D408F2F7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7CB8C-198A-4CD2-A717-DE600B15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C00F6-4CDF-4AE7-BB94-D641B442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9D55D-4329-4D3A-AD40-B29B00CD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25C9F-931F-40E5-9425-6124F0C7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A4B0F-19C5-49C1-9429-E27B50A1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D13D-4A40-4962-A159-E31CC27C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B9436-8885-48DE-8061-B9F35146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B2A47-06DD-4187-AD55-6EF3FD26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596A7-1B51-43A6-A0E2-94D21AFF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9DE73-FA9B-4C60-9D7A-6524C872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80D44-D1D0-4B10-921D-350E1998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6CA4D-28E5-4476-A60B-0A7C5BB6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6870E-4235-46E7-8305-879BEE5E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F9506-C875-4E14-9C11-D30591BA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743FB-2F0C-4287-A095-37844764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FCF37-C201-4CB1-A90F-C5FDFA76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936-1E0B-4122-A950-E596658E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EAF86-785A-4DA2-9CBD-12EE38C6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CA4F8-5698-4DAA-8E33-15CD8BE1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AE88E-C441-40E6-BDF3-B2B60B3C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E2CBE-FADE-46FB-8E58-14C97C13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CF3E8-1C16-4DC8-BC7D-A79B5705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A27A1-2E48-42D2-B5BB-A2C074AB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EC0CC-9ED8-4BD3-9770-D67F1030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0FBC3-4833-4C15-A5AE-B58D7ABC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20304-A965-4EB1-A0C5-B0751F86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DC9BA-E8C2-44B2-9839-C26C5522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CC23-0BC1-4EB7-ADF2-96CF39014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50D2-70CE-4D11-A6C0-DF4214E3A4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9834-AD40-4CB9-A5E7-D9661B439A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1A53-8B08-4C2C-B080-8AC0F86247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476F-9565-4874-BF2F-7CDD5A43A4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7245-10AD-45E9-B4BE-DCC74127D5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5712-1016-4A9C-8A83-41B95B676D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D0CB-5C2E-46EC-B5DC-EF32D778D8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A128-D8FE-42C7-B006-9240AE30BF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A828-AB42-4701-BC3E-4C66474BBA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3765-4A7F-4D89-8154-F0A56C8541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F4A1-20E5-4AA7-A8C5-A8FF06C1D4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042B-BC5F-4795-9592-7443E8AA31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3D4B-078E-4850-BD33-9EE8EDB6C4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5841-77A4-4A07-89CF-DE3DB5F599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855C-D055-4947-9E9B-11BB5E1909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CF65-8CB3-4465-8536-02B7F93FD5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D7C4-CD52-4741-983B-678CD5AA08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FCFC-0909-4611-ACB6-3397EA9CD4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0B3B-8DF4-4C32-9CE3-A607E607C7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2F47-A6EC-47C4-A991-51701A0964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35E6-05F0-4A1E-92D9-21DA4F4396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41BE-D914-4AF9-A5AE-6529CA939B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F40C-4925-4537-9A3C-1DE3643192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7608-3295-4FEF-85EC-AC51F19BAB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C028-5AE1-4855-8E89-1472E87C8E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96C6-71BD-4F44-86BA-EB237680CF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C571-4A9C-4818-8B3C-BD42060EC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11E9-FB3C-470E-B408-0E8B8ECA0D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192C-8832-4D92-86A4-D55C2E99AA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7879-C9DB-4281-9299-0CA9A91B1E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D53E-AF1A-4C36-AFAB-80B7A5F8CF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3495-DE40-4DE4-8D47-3A7CD275AC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410C-20F2-47A5-A9CB-65FF6C5654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03E7-26AE-4E6A-AB86-A1F20F2014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AB55-5BB0-4FFC-B1D6-B86C0CAED8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DDB6-4492-450A-9A09-454E51E0EF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CF10-58BF-4799-B118-36CA5CCA1F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B60F-40E5-4CF6-B682-B33C4377FE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D9FA-9E62-4275-A7B1-74E60AEB76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233440" y="3038400"/>
            <a:ext cx="46771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485640" y="1143000"/>
            <a:ext cx="8172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461880" y="1476360"/>
            <a:ext cx="8220240" cy="3905280"/>
          </a:xfrm>
          <a:prstGeom prst="rect">
            <a:avLst/>
          </a:prstGeom>
          <a:ln w="0">
            <a:noFill/>
          </a:ln>
        </p:spPr>
      </p:pic>
      <p:sp>
        <p:nvSpPr>
          <p:cNvPr id="1048" name="矩形 2"/>
          <p:cNvSpPr/>
          <p:nvPr/>
        </p:nvSpPr>
        <p:spPr>
          <a:xfrm>
            <a:off x="857160" y="135720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3"/>
          <p:cNvSpPr/>
          <p:nvPr/>
        </p:nvSpPr>
        <p:spPr>
          <a:xfrm>
            <a:off x="857160" y="185724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4"/>
          <p:cNvSpPr/>
          <p:nvPr/>
        </p:nvSpPr>
        <p:spPr>
          <a:xfrm>
            <a:off x="857160" y="235728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5"/>
          <p:cNvSpPr/>
          <p:nvPr/>
        </p:nvSpPr>
        <p:spPr>
          <a:xfrm>
            <a:off x="785880" y="3214800"/>
            <a:ext cx="42840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6"/>
          <p:cNvSpPr/>
          <p:nvPr/>
        </p:nvSpPr>
        <p:spPr>
          <a:xfrm>
            <a:off x="785880" y="4214880"/>
            <a:ext cx="42840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514440" y="833400"/>
            <a:ext cx="811512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495360" y="942840"/>
            <a:ext cx="8153280" cy="4972320"/>
          </a:xfrm>
          <a:prstGeom prst="rect">
            <a:avLst/>
          </a:prstGeom>
          <a:ln w="0">
            <a:noFill/>
          </a:ln>
        </p:spPr>
      </p:pic>
      <p:sp>
        <p:nvSpPr>
          <p:cNvPr id="1025" name="矩形 2"/>
          <p:cNvSpPr/>
          <p:nvPr/>
        </p:nvSpPr>
        <p:spPr>
          <a:xfrm>
            <a:off x="928800" y="2714760"/>
            <a:ext cx="42840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857160" y="364320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5"/>
          <p:cNvSpPr/>
          <p:nvPr/>
        </p:nvSpPr>
        <p:spPr>
          <a:xfrm>
            <a:off x="928800" y="450072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6"/>
          <p:cNvSpPr/>
          <p:nvPr/>
        </p:nvSpPr>
        <p:spPr>
          <a:xfrm>
            <a:off x="928800" y="542916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1" descr=""/>
          <p:cNvPicPr/>
          <p:nvPr/>
        </p:nvPicPr>
        <p:blipFill>
          <a:blip r:embed="rId1"/>
          <a:stretch/>
        </p:blipFill>
        <p:spPr>
          <a:xfrm>
            <a:off x="500040" y="1138320"/>
            <a:ext cx="8143920" cy="4581360"/>
          </a:xfrm>
          <a:prstGeom prst="rect">
            <a:avLst/>
          </a:prstGeom>
          <a:ln w="0">
            <a:noFill/>
          </a:ln>
        </p:spPr>
      </p:pic>
      <p:sp>
        <p:nvSpPr>
          <p:cNvPr id="1030" name="矩形 2"/>
          <p:cNvSpPr/>
          <p:nvPr/>
        </p:nvSpPr>
        <p:spPr>
          <a:xfrm>
            <a:off x="928800" y="121428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3"/>
          <p:cNvSpPr/>
          <p:nvPr/>
        </p:nvSpPr>
        <p:spPr>
          <a:xfrm>
            <a:off x="857160" y="200016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4"/>
          <p:cNvSpPr/>
          <p:nvPr/>
        </p:nvSpPr>
        <p:spPr>
          <a:xfrm>
            <a:off x="928800" y="292896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5"/>
          <p:cNvSpPr/>
          <p:nvPr/>
        </p:nvSpPr>
        <p:spPr>
          <a:xfrm>
            <a:off x="928800" y="3857760"/>
            <a:ext cx="42840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6"/>
          <p:cNvSpPr/>
          <p:nvPr/>
        </p:nvSpPr>
        <p:spPr>
          <a:xfrm>
            <a:off x="928800" y="4357800"/>
            <a:ext cx="42840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7"/>
          <p:cNvSpPr/>
          <p:nvPr/>
        </p:nvSpPr>
        <p:spPr>
          <a:xfrm>
            <a:off x="857160" y="4857840"/>
            <a:ext cx="42876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528480" y="1343160"/>
            <a:ext cx="808704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566640" y="1600200"/>
            <a:ext cx="801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738360" y="1362240"/>
            <a:ext cx="7667280" cy="4133520"/>
          </a:xfrm>
          <a:prstGeom prst="rect">
            <a:avLst/>
          </a:prstGeom>
          <a:ln w="0">
            <a:noFill/>
          </a:ln>
        </p:spPr>
      </p:pic>
      <p:sp>
        <p:nvSpPr>
          <p:cNvPr id="1039" name="矩形 2"/>
          <p:cNvSpPr/>
          <p:nvPr/>
        </p:nvSpPr>
        <p:spPr>
          <a:xfrm>
            <a:off x="1214280" y="150012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3"/>
          <p:cNvSpPr/>
          <p:nvPr/>
        </p:nvSpPr>
        <p:spPr>
          <a:xfrm>
            <a:off x="1143000" y="278604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4"/>
          <p:cNvSpPr/>
          <p:nvPr/>
        </p:nvSpPr>
        <p:spPr>
          <a:xfrm>
            <a:off x="1285920" y="4214880"/>
            <a:ext cx="42876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1" descr=""/>
          <p:cNvPicPr/>
          <p:nvPr/>
        </p:nvPicPr>
        <p:blipFill>
          <a:blip r:embed="rId1"/>
          <a:stretch/>
        </p:blipFill>
        <p:spPr>
          <a:xfrm>
            <a:off x="500040" y="1152360"/>
            <a:ext cx="8143920" cy="4553280"/>
          </a:xfrm>
          <a:prstGeom prst="rect">
            <a:avLst/>
          </a:prstGeom>
          <a:ln w="0">
            <a:noFill/>
          </a:ln>
        </p:spPr>
      </p:pic>
      <p:sp>
        <p:nvSpPr>
          <p:cNvPr id="1043" name="矩形 2"/>
          <p:cNvSpPr/>
          <p:nvPr/>
        </p:nvSpPr>
        <p:spPr>
          <a:xfrm>
            <a:off x="857160" y="121428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3"/>
          <p:cNvSpPr/>
          <p:nvPr/>
        </p:nvSpPr>
        <p:spPr>
          <a:xfrm>
            <a:off x="857160" y="300024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490680" y="1128600"/>
            <a:ext cx="816264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12:2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